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1125000"/>
            <a:ext cx="83628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ем молекула кисеоника, лигандно поље је довољно јако да дође до спаривања електрона, дајући нискоспински комплекс гвожђа. Тако настаје оксихемоглобин уз ослобађање одређене количине енерг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 једне субјединице за молекул кисеоника омогућава свакој следећој субјединици да јаче веже наредни молекул кисеоника за себе. При томе долази до промене конформације другог протеинског ланца дим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е промене увећавају афинитет према кисео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итет хемоглобина према кисеонику опада са смањење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(Боров ефекат) али повећање концентрације угље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а у мишићима битно не утиче н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ви због доброг пуферског капацитета кр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гло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624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у и терцијарну структуру миоглобина разрешио ј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rew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истећ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рендгенске структурне ана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протеин је молекулске масе 17000, а садржи осам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ликоидних области, чија је дужина различита и креће се од 7 до 20 аминокиселинских остатака, а свака хеликоидна област раздвојена је другим међухеликоидним обла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 у миоглобину смештен је у шупљини (џепу) између хеликса Е и хеликс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езан је за азотов атом хистиди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глобин има улогу да у мишићу преда кисеоник из крви митохондријама у којима је притисак кисеоника ни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968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пруси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I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и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3492360" y="3441600"/>
          <a:ext cx="3095640" cy="24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441600"/>
                    <a:ext cx="309564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омиц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пептид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татиц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љ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јашњ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363920" cy="3741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127960" y="4941720"/>
            <a:ext cx="57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структуре комплекс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омици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5364000" y="3357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510880" y="3573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4502520" y="27813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III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ћ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ријс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зи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563400" y="2421000"/>
          <a:ext cx="83869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21000"/>
                    <a:ext cx="8386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гвожђа у организму изазива појаву анем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узроци анемије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синтезе х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поремећаји апсорпције гвожђа унетог хр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 исх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потреба организма за гвожђем у стањима раста, менопаузе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временој медицини употребљава се велики број препарата на бази једињења која садрже гвожђе(II) и гвожђе(III)-ј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за оралну терапију препарати који садрже соли двовалентног гвожђа као што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сулф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фум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глук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лак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глута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28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Комплексна једињења гвожђа и кобал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Vertical Scroll 3"/>
          <p:cNvSpPr/>
          <p:nvPr/>
        </p:nvSpPr>
        <p:spPr>
          <a:xfrm>
            <a:off x="0" y="1700280"/>
            <a:ext cx="9144000" cy="3600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садрже гвожђе(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е садрж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теинсукц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полималтозни компл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Horizontal Scroll 3"/>
          <p:cNvSpPr/>
          <p:nvPr/>
        </p:nvSpPr>
        <p:spPr>
          <a:xfrm>
            <a:off x="611280" y="907920"/>
            <a:ext cx="5473440" cy="33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 препарата који садрже гвожђе(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желу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у желу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orizontal Scroll 4"/>
          <p:cNvSpPr/>
          <p:nvPr/>
        </p:nvSpPr>
        <p:spPr>
          <a:xfrm>
            <a:off x="3635280" y="3618000"/>
            <a:ext cx="4824360" cy="32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особине препарата који садрже гвожђе(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јо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растворљивост (нису раствори у киселој средини а лагано се растварају у неутралној и алкалној среди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714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1640" y="2708280"/>
            <a:ext cx="68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(III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координов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нск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јал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мидазолов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ЦИЈАНОКОБАЛ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ОБАЛ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Slike za predavanja\048.jpg"/>
          <p:cNvPicPr/>
          <p:nvPr/>
        </p:nvPicPr>
        <p:blipFill>
          <a:blip r:embed="rId1"/>
          <a:stretch/>
        </p:blipFill>
        <p:spPr>
          <a:xfrm>
            <a:off x="2071800" y="1428840"/>
            <a:ext cx="458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АКВАКОБАЛАМИН</a:t>
            </a:r>
            <a:r>
              <a:rPr b="0" i="1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аденозилкобалам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тилкобалам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с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в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рибоз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ск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аступљен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с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,2-6,1 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 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-7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(II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 азота и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ов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ид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и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 је лако приступачан важан протеин у људском телу који обавља добро познату функцију, транспорт кисеоника од плућа до периферних ткива као и транспор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ериферних ткива назад до плу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исеоника заснива се на хемијској интеракцији између молекулског кисеоника и хема, тетрапиролског порфиринског прстена који садржи феро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ски прстен синтетише се у већини ћелија, укључујући и ћелије биљака у којима се налази као хлороф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атома азота оријентисана према центру порфиринског прстена учествују у неутрализацији шарже на фер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твору хем ће везати кисеоник веома чврсто. Такво везивање настаје услед оксидације феро у фе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ва главна протеина који садрже хем, а који учествују у транспорту кисеоника: миоглобин и хемоглобин (црвени проте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миоглобина и хемоглобина хем је смештен у специјалним џеповима како би се избегла поменута оксид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проучена улога гвожђа у биосистемима је улога носиоца кисеоника у хемоглоб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 се састоји од четири субјединице од којих свака садржи по један хем, комплекс феро јона са порфирином повезан са протеином глоб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хемоглобин у природи садржи две протеинске субјединице које чине 141 АК повезане у ланац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ве протеинске субјединице од 146 АК повезаних 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н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идинска страна ланца координована је за пето место на фер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, т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једне стране равни у којој се налази порфирински прс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сихемоглобину шесто место је попуњено са молекулом кисеоника, а у деоксихемоглобину је празно или повезано молекулом воде врло слабом ве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 деоксихемоглобин слаб лиганд, тј. поседује слабо лигандно поље координован фер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је високосп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и има већи полупречник од фер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у нискоспинским комплексима. Високоспински фер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је великог полупречника за окно порфирина 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 гвожђа налази изнад равни азота из порфирина дајући квадратно-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амидалну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571920" cy="429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5214960" y="4071960"/>
            <a:ext cx="30718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6"/>
          <p:cNvGraphicFramePr/>
          <p:nvPr/>
        </p:nvGraphicFramePr>
        <p:xfrm>
          <a:off x="5292720" y="765000"/>
          <a:ext cx="3284640" cy="32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765000"/>
                    <a:ext cx="328464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iagrammatic representation of the structure of hemoglobin"/>
          <p:cNvPicPr/>
          <p:nvPr/>
        </p:nvPicPr>
        <p:blipFill>
          <a:blip r:embed="rId1"/>
          <a:stretch/>
        </p:blipFill>
        <p:spPr>
          <a:xfrm>
            <a:off x="1547640" y="1557360"/>
            <a:ext cx="5977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9T17:35:12Z</dcterms:modified>
  <cp:revision>145</cp:revision>
  <dc:subject/>
  <dc:title>Slide 1</dc:title>
</cp:coreProperties>
</file>